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447BC-E899-45A2-AD3B-7E6EC6CD2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5E4F6-C4D7-4BEE-949E-F87BC6E6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03A15-B0DA-4E0D-BE54-5A0B79DF7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40E61-23D6-4E2E-B22D-DD87D94C0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CDF9-6C49-4A0B-8B4E-1623E29A1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B56D-6ABC-473C-BDD5-240FB695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54D3-04C4-4DE7-B55C-D7EF0898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4C9E-6EB1-4F5C-9BE3-39D7686F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D6C0-9273-4996-9FFB-1AB72866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81DC-21DD-4E8A-8468-EA8428F3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94A5-CB8C-4ED9-BD90-1E66B3C6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80342-1B8B-4955-A19C-C636CF81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CD86-9ED8-4FB9-9332-ED8162AC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CEFF-CFB5-4237-871E-5CFED537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AC7C-D13F-4A74-8D2A-94A76834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DA7B-B1E0-4951-A71D-DB0781C22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030B-434B-4AD2-8589-5BEA0B726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51580-0716-4F7C-BB7C-8A6B3100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6C803-C220-4BDD-9AF4-230BA402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987E6-859D-48E3-AD43-78740F2C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50F0F-2582-492B-B6C6-D71412ED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437E1-68AF-4C67-9E28-2FBD8D79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5F32C-08C1-4C52-8B5D-854448A0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1E58B-D0AA-406D-97A9-9EE5D954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B021-3EC7-42FF-B1D1-409D0007A5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7DBD-2303-4133-B5D6-1E2E68A798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Software Configuration Management – 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ecture # 3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4648-30C4-4048-A2A7-337ECE1EE40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SCM Functions Infuse Traceability</a:t>
            </a:r>
            <a:br>
              <a:rPr sz="4600"/>
            </a:b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17D3-8CEC-4AFA-A5B3-72BEC56F83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eability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s pointers to software parts in software products for use in refere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ke software parts and their relationships more visible, thus facilitating the linking of parts in different representations of the same produ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06DFD-12E6-4718-BC7E-46AED22B3B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eability: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kes baselines and changes to them manifest, thus providing the links in a traceability ch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s the forum for avoiding unwanted excursions and maintaining convergence with requir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8FCA9-D5D5-4C7E-9218-0CFD2F8BBC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SCM Infuses Traceabilit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7E8A-BBA7-4EA5-AB38-CCC1817E2C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eability: Aud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hecks that parts in one software product are carried through to the subsequent software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hecks that parts in a software product have antecedents/roots in requirements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A9A65-8191-4B0E-9590-B91A184F1F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ceability: Accounting/Repor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s history of what happened and 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s explicit linkages between change control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34E62-F688-476A-A76A-E46DB73170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Real-World Consideration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7582-2D5B-454E-B8C7-97FCD94E94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-World 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Commit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SCM Staff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ment of a CC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SCM During the Acceptance Testing Cyc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Justification and Practicality of Audi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voiding the Paperwork Nightm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llocating Resources among SCM Activ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08509-D248-4CC4-A9A4-1CECAE5B74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Commi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commitment to the establishment of checks and balances is essential to achieving benefits from S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say many things 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ED7E4-C325-4C9B-B2AA-6953CDBCAB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agement Commitment for S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2819520"/>
            <a:ext cx="1828800" cy="9144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5000" y="2819520"/>
            <a:ext cx="1828800" cy="9144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3733920"/>
            <a:ext cx="609624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14600" y="4267080"/>
            <a:ext cx="3962520" cy="1371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69280" y="30481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19320" y="2835360"/>
            <a:ext cx="182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91640" y="37339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79480" y="4876920"/>
            <a:ext cx="179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2A44B-B4BD-4DE9-801C-843AD048DB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AC32D-A38D-436B-9CD8-D364B035D0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SCM Staffing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itial staffing by a few experienced people quickly gains the confidence and respect of other project team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important to build the image that the SCM team has the objective of helping the other project team members achieve the overall team goals, that they are not a group of obstructionists and criticiz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30816-FAE5-4E89-8127-74C8844C390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SCM Staffing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SCM organization requ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guration control specia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 accoun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positions require hard work and ded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5ACCF-FD7D-44D3-950A-0258BB0067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SCM Staffing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ortant qualification of these people are the ability to see congruence (similarity) between software products and the ability to perceive what is missing from a software produ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se abilities, the SCM team member can observe how change to the software system is visibly and traceably being controll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2BBBC-DC2F-4172-B840-462D253603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SCM Staffing 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all SCM personnel be skilled programmers and analy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, these particular skills are not a necessity by any means, although personnel performing software configuration auditing should be technically ski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9097E-574C-4BF3-AE35-58C1A9377A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M Staffing Skills: Identif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see part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see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technical ability desi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engineering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99295-7698-4872-A46F-45ABBD6EEB0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M Staffing Skills: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evaluate benefits versus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viewpoint (balance of technical / managerial, user / buyer / sell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ppreciation of what is involved in engineering a softwar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97F20-97EE-48B6-A129-AD29EC0CC49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M Staffing Skills: Aud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eme attention to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see congr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perceive what is mi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ve experience with technical aspects of system engineering and/or software engin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3AB43-87C7-4751-953D-3D4CD02D910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M Staffing Skills: Status Accounting/Repor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take notes and recor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organiz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technical familiarity desirable but not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engineering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6852C-142D-481D-9470-73E344EDDDE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ment of a CCB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s a starting point in instituting SCM, periodic CCB meetings provide change control, visibility, and trace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CCB meeting is a mechanism for controlling change during the development and maintenance of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CB membership should be drawn from all organizations on th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D2BD8-AE68-4968-AF85-7F4325ADFF4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ment of a CCB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 mech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CB chair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CB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00FE6-CB57-44AF-AB15-0270B35AC7C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L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ll discuss some practical aspects related to software configuration management in today’s l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74CF0-A166-433B-9162-C8B1E4A926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hanges are necessary, a CCB meets to evaluate and manage the impact of change on the software developmen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098B5-633A-4737-AFA4-5805D27E661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pact of change can be countered in only three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more people to the project to reduce the impact of th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 the time to compl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other nonessential or less essential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6455F-E3D8-42CD-A864-6A24B99902E3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small amount of code is changed, it is redesigned into the old code; if a large amount is changed, a complete subsystem is redesigned as though it were a new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maintenance point of view, IBM followed this rule of thumb; “If 20% of the code must be modified, then the module should be redesigned and rewritte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D03D1-8075-45C8-AD8D-13878B74163B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SCM During the Acceptance Testing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CM integrated within the acceptance testing cycle maintains a visible and traceable product ready for delivery to the cust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8B954-119A-491B-BBC9-EB944AA825D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ing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ation of release notes (lists of changed softwa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development bas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incident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operational bas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2967C-0867-41EC-94F8-EEED5BD0A3F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ing: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CB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ment of development bas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ment of testing and incident resolution pri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ment of turnover 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val of audit and test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val of incident report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ment of operational bas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9F05A-60C1-476D-9143-7CFD384C9A2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ing: Aud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of new baseline to previous bas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rance that standards have been m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(verification and validation) of softwar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100C8-4007-4258-BC41-96C25CBD89A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ing: Accounting/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ing and tracking of incident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ation of CCB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698B6-66B3-423C-8ED4-529BD1869E0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Justification and Practicality of Audi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lthough the auditing consumes the greater part of the SCM budget, it has the potential of preventing the waste of much greater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08D19-92D6-47E4-9ADE-444F02920DC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Avoiding the Paperwork Nightm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buyer/user and seller should agree on the paperwork needed to achieve a mutually desirable level of visibility and trace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7B48A-8D48-4898-8268-C06B9958D91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mentioned in the first lecture on software configuration management that SCM provides a cover against lack of visibility and lack of trace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now we’ll discuss how SCM infuses visibility and traceability through its main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AE9AD-73BC-4180-A0EF-3E68D6E712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Allocating Resources among SCM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st versus benefits must be evaluated for each individual project in determining the allocation of limited SCM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BC65D-6EA5-430D-80CC-F0D92010838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Issues Relating to SC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ing issues should be examined and evaluated in terms of corporate return on investment and employee le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long to support a particular version of the softw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upgrade paths should be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variations (not versions) of the product should be produced and suppor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7975D-E98C-4732-B1BD-4BC2C97C2B91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Book of Software Quality Assurance 3rd Ed., Edited by G. Gordon Schulmeyer and James I. McManus, 1998 (Chapter 10.2-10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34F1A-7FAC-4E23-9E23-65A384D1354D}" type="slidenum">
              <a:t>42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SCM Functions Infuse Visibility</a:t>
            </a:r>
            <a:br>
              <a:rPr sz="4600"/>
            </a:b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DFA0-EF99-46AA-A4FA-47EEBDC9D3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ibility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ser/buyer/seller can see what is being/has been built/is to be mod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can see what is embodied in a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ll project participants can communicate with a common frame of refer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22857-79E3-46F1-B62C-ECE039D20E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ibility: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urrent and planned configuration generally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can see impact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has option of getting involved with technical detail of pro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451E8-1EFD-4610-86BA-CD505FC131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ibility: Aud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consistencies and discrepancies manif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tate of product known to management and product develo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otential problems identified e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4C616-6744-4F0B-9031-695AD269A0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ibility: Accounting/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ports inform as to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ctions/decisions made explicit (e.g., through CCB meeting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atabase of events is project hist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E3C53-C9A7-47FD-9989-75E58787AC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5:58:02Z</dcterms:created>
  <dc:creator>Ghulam Ahmad Farrukh</dc:creator>
  <dc:description/>
  <dc:language>en-US</dc:language>
  <cp:lastModifiedBy>ahmadmohsin</cp:lastModifiedBy>
  <dcterms:modified xsi:type="dcterms:W3CDTF">2009-06-22T05:11:52Z</dcterms:modified>
  <cp:revision>218</cp:revision>
  <dc:subject/>
  <dc:title>SCM and Quality Assurance</dc:title>
</cp:coreProperties>
</file>